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5E89-38EF-4499-8BBB-B860D6F9F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481C-B8D7-47B3-8345-8EFC8AD0F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5B49-8AB6-4374-9399-A54C0D43E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8ACD-FCB3-4D99-A28A-87121D34A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2AA2-FF92-4F5E-8CFE-6E191D7DD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1CBB-2075-4420-9D3D-84BEE97B4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0072-FFBE-4FA9-A8B7-8ACC5A29A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6C99-F15E-412A-94AE-C708A38C4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5A19-8998-4F4A-A2C2-2A1AC303F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85F3-7BEA-44FF-8AF4-91864AD2D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F74A-46A2-45F4-A097-3BB6CAE4F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E17-4A90-4DE0-9B66-9D11ABB8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A8B-ED52-47A5-8BEA-2EED6FEA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567-00BE-4131-B9ED-AEA55A8B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DF3-7848-4EFE-A750-9A2C805E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C0D-9466-468B-A721-B7658817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BF7-5487-4940-86B8-45CE96C1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C00-B948-48DC-91E0-4D73BC69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E62-D3AE-4A40-8A68-9A0BB816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B4A-6C03-4F54-99FF-690D69F4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89E-CCA8-46A0-AE91-448E0322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48C-F2F0-431B-AC73-2F9C3803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EBC-0826-4D65-BD69-B3603F1B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ff6b"/>
            </a:gs>
            <a:gs pos="100000">
              <a:srgbClr val="a220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F063-06EF-448A-8AF9-6EB2F5EF9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0"/>
            <a:ext cx="9144000" cy="1445040"/>
          </a:xfrm>
          <a:prstGeom prst="rect">
            <a:avLst/>
          </a:prstGeom>
          <a:solidFill>
            <a:srgbClr val="1705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ton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 3rd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412-4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587520" y="1447920"/>
            <a:ext cx="7978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Rocket Launch"/>
          <p:cNvPicPr/>
          <p:nvPr/>
        </p:nvPicPr>
        <p:blipFill>
          <a:blip r:embed="rId1"/>
          <a:stretch/>
        </p:blipFill>
        <p:spPr>
          <a:xfrm>
            <a:off x="0" y="1752480"/>
            <a:ext cx="4044960" cy="5105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n the action force, identify the reaction for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1219320"/>
            <a:ext cx="2743200" cy="581400"/>
          </a:xfrm>
          <a:prstGeom prst="rect">
            <a:avLst/>
          </a:prstGeom>
          <a:solidFill>
            <a:srgbClr val="170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70b"/>
                </a:solidFill>
                <a:latin typeface="Arial"/>
              </a:rPr>
              <a:t>Rocket- p 4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114800" y="1295280"/>
            <a:ext cx="2057400" cy="642600"/>
          </a:xfrm>
          <a:prstGeom prst="rect">
            <a:avLst/>
          </a:prstGeom>
          <a:solidFill>
            <a:srgbClr val="ed3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114800" y="1905120"/>
            <a:ext cx="502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170599"/>
                </a:solidFill>
                <a:latin typeface="Arial"/>
              </a:rPr>
              <a:t>rock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shes </a:t>
            </a:r>
            <a:r>
              <a:rPr b="0" lang="en-US" sz="3200" spc="-1" strike="noStrike">
                <a:solidFill>
                  <a:srgbClr val="170599"/>
                </a:solidFill>
                <a:latin typeface="Arial"/>
              </a:rPr>
              <a:t>hot g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kwards (from the combustion chamber through the nozz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114800" y="4038480"/>
            <a:ext cx="2743200" cy="642600"/>
          </a:xfrm>
          <a:prstGeom prst="rect">
            <a:avLst/>
          </a:prstGeom>
          <a:solidFill>
            <a:srgbClr val="ed3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114800" y="481644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170599"/>
                </a:solidFill>
                <a:latin typeface="Arial"/>
              </a:rPr>
              <a:t>hot g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sh the </a:t>
            </a:r>
            <a:r>
              <a:rPr b="0" lang="en-US" sz="3200" spc="-1" strike="noStrike">
                <a:solidFill>
                  <a:srgbClr val="170599"/>
                </a:solidFill>
                <a:latin typeface="Arial"/>
              </a:rPr>
              <a:t>rock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ward (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.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is a property of all mov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vement along a straight line, momentum is calculated by multiplying an object’s _____ and ________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mentum = mass x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= 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1219320" y="1905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ment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3124080" y="3962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5257800" y="3962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omentum = mass x velocity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 = m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um is expressed in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Wingdings"/>
              </a:rPr>
              <a:t>Like velocity, momentum has _______. An object’s momentum and velocity are in the same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6172200" y="1905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g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Wingdings"/>
              </a:rPr>
              <a:t>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6400800" y="2514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Wingdings"/>
              </a:rPr>
              <a:t>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sosceles Triangle 3"/>
          <p:cNvSpPr/>
          <p:nvPr/>
        </p:nvSpPr>
        <p:spPr>
          <a:xfrm>
            <a:off x="3124080" y="4267080"/>
            <a:ext cx="3048120" cy="1981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5"/>
          <p:cNvSpPr/>
          <p:nvPr/>
        </p:nvSpPr>
        <p:spPr>
          <a:xfrm>
            <a:off x="388620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7"/>
          <p:cNvSpPr/>
          <p:nvPr/>
        </p:nvSpPr>
        <p:spPr>
          <a:xfrm flipV="1">
            <a:off x="464832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3733920" y="5562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724280" y="556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mass of an object, the ________ the momentum of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a tractor trailer truck has much more momentum than a sports car moving at the same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5118120" cy="3086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5003640" cy="18414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1066680" y="1066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e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aster an object is the ________ the momentum of the objec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4647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an object is not moving its momentum is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991040" cy="2514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56160" cy="3009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6324480" y="228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rea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5334120" y="51814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Practic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alcula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ment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____ kg speed skater moving forward at ____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= m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75 kg)(16 m/s) = 1,200 kg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Wingdings"/>
              </a:rPr>
              <a:t>m/s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685800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6553080" y="24382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304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alcula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ment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____ kg ostrich running north at _____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= m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135 kg)(16.2m/s) = 2,190 kg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Wingdings"/>
              </a:rPr>
              <a:t>m/s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748400" cy="3581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6781680" y="228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5029200" y="762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304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alcula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ment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____ kg passenger seated on a train that is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= m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48.5 kg)(0 m/s) = 0 kg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Wingdings"/>
              </a:rPr>
              <a:t>m/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5790960" cy="34768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6781680" y="304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8.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990720" y="12193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alcula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____ kg kitten with a forward momentum of     ____ kg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Wingdings"/>
              </a:rPr>
              <a:t>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Wingdings"/>
              </a:rPr>
              <a:t>v = p/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Wingdings"/>
              </a:rPr>
              <a:t>= (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Wingdings"/>
              </a:rPr>
              <a:t>m/s)/(0.8 kg) = 6m/s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4744800" cy="35942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6095880" y="228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990720" y="1143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Conservation of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oving object hits a second object, some or all of the momentum of the first object is ___________ to the second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tal momentum of two or more objects after a collision is the _____ as it was before the coll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4191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nsfer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6400800" y="4495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to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3rd law of mo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28600" y="12193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ces always occur i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28600" y="2133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very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ce…there is an </a:t>
            </a:r>
            <a:r>
              <a:rPr b="0" lang="en-US" sz="3600" spc="-1" strike="noStrike">
                <a:solidFill>
                  <a:srgbClr val="8b0f11"/>
                </a:solidFill>
                <a:latin typeface="Arial"/>
              </a:rPr>
              <a:t>equ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8b0f11"/>
                </a:solidFill>
                <a:latin typeface="Arial"/>
              </a:rPr>
              <a:t>oppos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a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04920" y="3429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ces in a force pair do not act on the same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04920" y="48769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al forces do not always have equal eff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u2l4a1"/>
          <p:cNvPicPr/>
          <p:nvPr/>
        </p:nvPicPr>
        <p:blipFill>
          <a:blip r:embed="rId1"/>
          <a:stretch/>
        </p:blipFill>
        <p:spPr>
          <a:xfrm>
            <a:off x="6019920" y="4602240"/>
            <a:ext cx="2895480" cy="2022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u2l4a2"/>
          <p:cNvPicPr/>
          <p:nvPr/>
        </p:nvPicPr>
        <p:blipFill>
          <a:blip r:embed="rId2"/>
          <a:srcRect l="24477" t="0" r="0" b="0"/>
          <a:stretch/>
        </p:blipFill>
        <p:spPr>
          <a:xfrm>
            <a:off x="6934320" y="152280"/>
            <a:ext cx="12189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Imagine hitting a billiard ball with a cue ball so that the billiard ball starts moving. During the collision, the cue ball transfers some of its momentum to the billiard 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e ball hits the billiard ball with a force – the _______ force. The equal but opposite force exerted by the billiard ball on the cue ball is the ________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543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1752480" y="23623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666880" y="3200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aw of Conservation of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conservation of momentum stat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total amount of momentum in an isolated system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ime two or more objects interact, they may exchange momentum, but the total momentum of the system stays the 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1295280" y="49528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walking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5961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295280" y="4800600"/>
            <a:ext cx="2438640" cy="1191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0f11"/>
                </a:solidFill>
                <a:latin typeface="Arial"/>
              </a:rPr>
              <a:t>ACTION 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5181480" y="5334120"/>
            <a:ext cx="2743200" cy="1191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0f11"/>
                </a:solidFill>
                <a:latin typeface="Arial"/>
              </a:rPr>
              <a:t>REACTION 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105520" y="30492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b0f11"/>
                </a:solidFill>
                <a:latin typeface="Arial"/>
              </a:rPr>
              <a:t>Also applies to skateboards… cars…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838080" y="533520"/>
            <a:ext cx="1600200" cy="1130040"/>
          </a:xfrm>
          <a:prstGeom prst="rect">
            <a:avLst/>
          </a:prstGeom>
          <a:solidFill>
            <a:srgbClr val="e6e7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1d20"/>
                </a:solidFill>
                <a:latin typeface="Arial"/>
              </a:rPr>
              <a:t>EX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wim"/>
          <p:cNvPicPr/>
          <p:nvPr/>
        </p:nvPicPr>
        <p:blipFill>
          <a:blip r:embed="rId1"/>
          <a:stretch/>
        </p:blipFill>
        <p:spPr>
          <a:xfrm>
            <a:off x="4419720" y="0"/>
            <a:ext cx="43923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04920" y="1219320"/>
            <a:ext cx="4114800" cy="204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b0f11"/>
                </a:solidFill>
                <a:latin typeface="Arial"/>
              </a:rPr>
              <a:t>Swimm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ushes backward</a:t>
            </a:r>
            <a:r>
              <a:rPr b="0" lang="en-US" sz="3200" spc="-1" strike="noStrike">
                <a:solidFill>
                  <a:srgbClr val="8b0f11"/>
                </a:solidFill>
                <a:latin typeface="Arial"/>
              </a:rPr>
              <a:t> on wall…wall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ushes forward</a:t>
            </a:r>
            <a:r>
              <a:rPr b="0" lang="en-US" sz="3200" spc="-1" strike="noStrike">
                <a:solidFill>
                  <a:srgbClr val="8b0f11"/>
                </a:solidFill>
                <a:latin typeface="Arial"/>
              </a:rPr>
              <a:t> on sw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04920" y="4038480"/>
            <a:ext cx="4124160" cy="204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b0f11"/>
                </a:solidFill>
                <a:latin typeface="Arial"/>
              </a:rPr>
              <a:t>Swimm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ushes backward</a:t>
            </a:r>
            <a:r>
              <a:rPr b="0" lang="en-US" sz="3200" spc="-1" strike="noStrike">
                <a:solidFill>
                  <a:srgbClr val="8b0f11"/>
                </a:solidFill>
                <a:latin typeface="Arial"/>
              </a:rPr>
              <a:t> on water…wat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ushes forward</a:t>
            </a:r>
            <a:r>
              <a:rPr b="0" lang="en-US" sz="3200" spc="-1" strike="noStrike">
                <a:solidFill>
                  <a:srgbClr val="8b0f11"/>
                </a:solidFill>
                <a:latin typeface="Arial"/>
              </a:rPr>
              <a:t> on sw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28600" y="228600"/>
            <a:ext cx="1600200" cy="1130040"/>
          </a:xfrm>
          <a:prstGeom prst="rect">
            <a:avLst/>
          </a:prstGeom>
          <a:solidFill>
            <a:srgbClr val="e6e7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1d20"/>
                </a:solidFill>
                <a:latin typeface="Arial"/>
              </a:rPr>
              <a:t>EX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1720"/>
          <p:cNvPicPr/>
          <p:nvPr/>
        </p:nvPicPr>
        <p:blipFill>
          <a:blip r:embed="rId1"/>
          <a:stretch/>
        </p:blipFill>
        <p:spPr>
          <a:xfrm>
            <a:off x="228600" y="1905120"/>
            <a:ext cx="3586320" cy="3886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304920" y="20574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70b"/>
                </a:solidFill>
                <a:latin typeface="Arial"/>
              </a:rPr>
              <a:t>Bird f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n the action force, identify the reaction for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3962520" y="1295280"/>
            <a:ext cx="2057400" cy="642600"/>
          </a:xfrm>
          <a:prstGeom prst="rect">
            <a:avLst/>
          </a:prstGeom>
          <a:solidFill>
            <a:srgbClr val="ed3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3962520" y="4114800"/>
            <a:ext cx="2743200" cy="642600"/>
          </a:xfrm>
          <a:prstGeom prst="rect">
            <a:avLst/>
          </a:prstGeom>
          <a:solidFill>
            <a:srgbClr val="ed3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4038480" y="20574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170599"/>
                </a:solidFill>
                <a:latin typeface="Arial"/>
              </a:rPr>
              <a:t>w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bird pushes the </a:t>
            </a:r>
            <a:r>
              <a:rPr b="0" lang="en-US" sz="3600" spc="-1" strike="noStrike">
                <a:solidFill>
                  <a:srgbClr val="170599"/>
                </a:solidFill>
                <a:latin typeface="Arial"/>
              </a:rPr>
              <a:t>ai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ownwar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4038480" y="487692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170599"/>
                </a:solidFill>
                <a:latin typeface="Arial"/>
              </a:rPr>
              <a:t>ai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shes the </a:t>
            </a:r>
            <a:r>
              <a:rPr b="0" lang="en-US" sz="3600" spc="-1" strike="noStrike">
                <a:solidFill>
                  <a:srgbClr val="170599"/>
                </a:solidFill>
                <a:latin typeface="Arial"/>
              </a:rPr>
              <a:t>w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bird upwar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n the action force, identify the reaction for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rifle"/>
          <p:cNvPicPr/>
          <p:nvPr/>
        </p:nvPicPr>
        <p:blipFill>
          <a:blip r:embed="rId1"/>
          <a:stretch/>
        </p:blipFill>
        <p:spPr>
          <a:xfrm>
            <a:off x="0" y="3276720"/>
            <a:ext cx="1905120" cy="1339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u2l4a7"/>
          <p:cNvPicPr/>
          <p:nvPr/>
        </p:nvPicPr>
        <p:blipFill>
          <a:blip r:embed="rId2"/>
          <a:stretch/>
        </p:blipFill>
        <p:spPr>
          <a:xfrm>
            <a:off x="2057400" y="205740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52280" y="1219320"/>
            <a:ext cx="2362320" cy="581400"/>
          </a:xfrm>
          <a:prstGeom prst="rect">
            <a:avLst/>
          </a:prstGeom>
          <a:solidFill>
            <a:srgbClr val="1cc6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ing a rif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572000" y="1371600"/>
            <a:ext cx="2057400" cy="642600"/>
          </a:xfrm>
          <a:prstGeom prst="rect">
            <a:avLst/>
          </a:prstGeom>
          <a:solidFill>
            <a:srgbClr val="ed3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495680" y="21337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170599"/>
                </a:solidFill>
                <a:latin typeface="Arial"/>
              </a:rPr>
              <a:t>hot g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ushes forward on the </a:t>
            </a:r>
            <a:r>
              <a:rPr b="0" lang="en-US" sz="3600" spc="-1" strike="noStrike">
                <a:solidFill>
                  <a:srgbClr val="170599"/>
                </a:solidFill>
                <a:latin typeface="Arial"/>
              </a:rPr>
              <a:t>bul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572000" y="3809880"/>
            <a:ext cx="2743200" cy="642600"/>
          </a:xfrm>
          <a:prstGeom prst="rect">
            <a:avLst/>
          </a:prstGeom>
          <a:solidFill>
            <a:srgbClr val="ed3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4648320" y="449568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170599"/>
                </a:solidFill>
                <a:latin typeface="Arial"/>
              </a:rPr>
              <a:t>bulle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ushes backwards on the </a:t>
            </a:r>
            <a:r>
              <a:rPr b="0" lang="en-US" sz="3600" spc="-1" strike="noStrike">
                <a:solidFill>
                  <a:srgbClr val="170599"/>
                </a:solidFill>
                <a:latin typeface="Arial"/>
              </a:rPr>
              <a:t>hot ga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which in turn pushes the rif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0" y="480060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npowder explosion creates a hot gas that expands out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cannon"/>
          <p:cNvPicPr/>
          <p:nvPr/>
        </p:nvPicPr>
        <p:blipFill>
          <a:blip r:embed="rId3"/>
          <a:stretch/>
        </p:blipFill>
        <p:spPr>
          <a:xfrm>
            <a:off x="1219320" y="14400"/>
            <a:ext cx="7315200" cy="690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Hose"/>
          <p:cNvPicPr/>
          <p:nvPr/>
        </p:nvPicPr>
        <p:blipFill>
          <a:blip r:embed="rId1"/>
          <a:stretch/>
        </p:blipFill>
        <p:spPr>
          <a:xfrm>
            <a:off x="228600" y="380880"/>
            <a:ext cx="4267080" cy="28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178981907_d653f03113"/>
          <p:cNvPicPr/>
          <p:nvPr/>
        </p:nvPicPr>
        <p:blipFill>
          <a:blip r:embed="rId2"/>
          <a:stretch/>
        </p:blipFill>
        <p:spPr>
          <a:xfrm>
            <a:off x="3962520" y="3581280"/>
            <a:ext cx="4546440" cy="302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u2l4a5"/>
          <p:cNvPicPr/>
          <p:nvPr/>
        </p:nvPicPr>
        <p:blipFill>
          <a:blip r:embed="rId1"/>
          <a:stretch/>
        </p:blipFill>
        <p:spPr>
          <a:xfrm>
            <a:off x="1066680" y="3733920"/>
            <a:ext cx="3505320" cy="2739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newtonthirdlaw"/>
          <p:cNvPicPr/>
          <p:nvPr/>
        </p:nvPicPr>
        <p:blipFill>
          <a:blip r:embed="rId2"/>
          <a:stretch/>
        </p:blipFill>
        <p:spPr>
          <a:xfrm>
            <a:off x="1981080" y="228600"/>
            <a:ext cx="4175280" cy="3129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balanced-forces"/>
          <p:cNvPicPr/>
          <p:nvPr/>
        </p:nvPicPr>
        <p:blipFill>
          <a:blip r:embed="rId3"/>
          <a:stretch/>
        </p:blipFill>
        <p:spPr>
          <a:xfrm>
            <a:off x="5486400" y="2971800"/>
            <a:ext cx="3111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image059"/>
          <p:cNvPicPr/>
          <p:nvPr/>
        </p:nvPicPr>
        <p:blipFill>
          <a:blip r:embed="rId1"/>
          <a:stretch/>
        </p:blipFill>
        <p:spPr>
          <a:xfrm>
            <a:off x="1752480" y="0"/>
            <a:ext cx="576576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orseCart1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46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20:16:52Z</dcterms:created>
  <dc:creator>Sarah Sewatsky User</dc:creator>
  <dc:description/>
  <dc:language>en-US</dc:language>
  <cp:lastModifiedBy>Jillian Boisse</cp:lastModifiedBy>
  <cp:lastPrinted>2012-03-08T15:34:35Z</cp:lastPrinted>
  <dcterms:modified xsi:type="dcterms:W3CDTF">2013-03-04T13:41:01Z</dcterms:modified>
  <cp:revision>59</cp:revision>
  <dc:subject/>
  <dc:title>PowerPoint Presentation</dc:title>
</cp:coreProperties>
</file>